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1.gif" ContentType="image/gif"/>
  <Override PartName="/ppt/media/image14.png" ContentType="image/png"/>
  <Override PartName="/ppt/media/image7.jpeg" ContentType="image/jpeg"/>
  <Override PartName="/ppt/media/image6.jpeg" ContentType="image/jpeg"/>
  <Override PartName="/ppt/media/image10.gif" ContentType="image/gif"/>
  <Override PartName="/ppt/media/image9.png" ContentType="image/png"/>
  <Override PartName="/ppt/media/image5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26.gif" ContentType="image/gif"/>
  <Override PartName="/ppt/media/image15.jpeg" ContentType="image/jpe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3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F1ED-8D79-419A-8583-A0756D7D16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анова Татьян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У СОШ № 13 г.Тамбо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анова Татьян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У СОШ № 13 г.Тамбо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м итог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м итог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 условие добродетельной жизни.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 условие добродетельной жизни.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с точки зрения зак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условие добродетельной жизн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с точки зрения зак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условие добродетельной жизн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Лентяй да шалопай – два родных брат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Хочешь есть калачи – не лежи на печ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человека кормит, а лень порт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Лентяй да шалопай – два родных брат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Хочешь есть калачи – не лежи на печ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человека кормит, а лень порт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ли подросткам трудиться и зарабатывать деньг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ли подросткам трудиться и зарабатывать деньг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29C-FF0D-45C1-8B47-4F20A055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6E0-1EEF-4EB2-B7C6-DCEC1043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3F1-838C-4CDF-AABB-41D20A4E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491-F154-47BD-AD18-8B441EE5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1AD-B215-4937-8B92-10EF6E89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693-86FF-4C94-A815-8E413D2D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FA3-DF89-40F2-95D5-03C34B3D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FE6-914B-44AB-98E8-10A3FDD4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F09-1685-4441-80BF-A23A7766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064-17E8-4EB3-9040-21090AF5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C18-5F2D-4FCE-B765-B43D49F5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C9D-56CC-4268-9187-FDC1EBA6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5EAD-E740-4F5B-A0BD-0F647A0FA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Степанова Татьян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учитель истории  и обществозн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МАОУ СОШ № 13 г.Тамбов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Таня.F52B12A72E7B40C\Рабочий стол\труд\7-1.jpg"/>
          <p:cNvPicPr/>
          <p:nvPr/>
        </p:nvPicPr>
        <p:blipFill>
          <a:blip r:embed="rId1"/>
          <a:stretch/>
        </p:blipFill>
        <p:spPr>
          <a:xfrm>
            <a:off x="838080" y="2368440"/>
            <a:ext cx="2971800" cy="4322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Трудовой догов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00600" y="1904760"/>
            <a:ext cx="419112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90000"/>
          </a:bodyPr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Текст 11"/>
          <p:cNvSpPr/>
          <p:nvPr/>
        </p:nvSpPr>
        <p:spPr>
          <a:xfrm>
            <a:off x="152280" y="1981080"/>
            <a:ext cx="41911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Таня.F52B12A72E7B40C\Рабочий стол\труд\trudovoy-dogovor.jpg"/>
          <p:cNvPicPr/>
          <p:nvPr/>
        </p:nvPicPr>
        <p:blipFill>
          <a:blip r:embed="rId1"/>
          <a:stretch/>
        </p:blipFill>
        <p:spPr>
          <a:xfrm>
            <a:off x="674640" y="2666880"/>
            <a:ext cx="3963960" cy="3448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62160" y="1981080"/>
            <a:ext cx="4800600" cy="4572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Текст 11"/>
          <p:cNvSpPr/>
          <p:nvPr/>
        </p:nvSpPr>
        <p:spPr>
          <a:xfrm>
            <a:off x="152280" y="1981080"/>
            <a:ext cx="342900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228600" y="274680"/>
            <a:ext cx="8458200" cy="155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аво на отдых и социальное обесп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Чупров Леонид\Мои документы\А. наглядность\А. фон природа\02.gif"/>
          <p:cNvPicPr/>
          <p:nvPr/>
        </p:nvPicPr>
        <p:blipFill>
          <a:blip r:embed="rId1"/>
          <a:stretch/>
        </p:blipFill>
        <p:spPr>
          <a:xfrm>
            <a:off x="247680" y="2057400"/>
            <a:ext cx="3276720" cy="444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Documents and Settings\Чупров Леонид\Мои документы\А. наглядность\А. люди анимация\peopls166.gif"/>
          <p:cNvPicPr/>
          <p:nvPr/>
        </p:nvPicPr>
        <p:blipFill>
          <a:blip r:embed="rId2"/>
          <a:stretch/>
        </p:blipFill>
        <p:spPr>
          <a:xfrm>
            <a:off x="7696080" y="533412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Чупров Леонид\Мои документы\А. наглядность\А. люди анимация\hiker_roasting01.gif"/>
          <p:cNvPicPr/>
          <p:nvPr/>
        </p:nvPicPr>
        <p:blipFill>
          <a:blip r:embed="rId3"/>
          <a:stretch/>
        </p:blipFill>
        <p:spPr>
          <a:xfrm>
            <a:off x="1828800" y="33526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Documents and Settings\Чупров Леонид\Мои документы\А. наглядность\А. люди анимация\album_0308172145_9443.gif"/>
          <p:cNvPicPr/>
          <p:nvPr/>
        </p:nvPicPr>
        <p:blipFill>
          <a:blip r:embed="rId4"/>
          <a:stretch/>
        </p:blipFill>
        <p:spPr>
          <a:xfrm>
            <a:off x="6858000" y="1136520"/>
            <a:ext cx="1600200" cy="13543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80880" y="380880"/>
            <a:ext cx="8382240" cy="129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авовое регулирование труда несовершеннолет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72464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Текст 11"/>
          <p:cNvSpPr/>
          <p:nvPr/>
        </p:nvSpPr>
        <p:spPr>
          <a:xfrm>
            <a:off x="152280" y="1981080"/>
            <a:ext cx="37339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C:\Documents and Settings\Чупров Леонид\Мои документы\А. наглядность\А. люди анимация\41_1.gif"/>
          <p:cNvPicPr/>
          <p:nvPr/>
        </p:nvPicPr>
        <p:blipFill>
          <a:blip r:embed="rId1"/>
          <a:stretch/>
        </p:blipFill>
        <p:spPr>
          <a:xfrm>
            <a:off x="1523880" y="4876920"/>
            <a:ext cx="1143000" cy="1533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:\Documents and Settings\Таня.F52B12A72E7B40C\Рабочий стол\труд\trud1.jpg"/>
          <p:cNvPicPr/>
          <p:nvPr/>
        </p:nvPicPr>
        <p:blipFill>
          <a:blip r:embed="rId2"/>
          <a:stretch/>
        </p:blipFill>
        <p:spPr>
          <a:xfrm>
            <a:off x="304920" y="2209680"/>
            <a:ext cx="3448080" cy="2590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одведем итог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447920" y="1771200"/>
            <a:ext cx="6705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D:\Мои рисунки\Оля\Рисунок2.jpg"/>
          <p:cNvPicPr/>
          <p:nvPr/>
        </p:nvPicPr>
        <p:blipFill>
          <a:blip r:embed="rId1"/>
          <a:stretch/>
        </p:blipFill>
        <p:spPr>
          <a:xfrm>
            <a:off x="304920" y="2133720"/>
            <a:ext cx="123192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Documents and Settings\Таня.F52B12A72E7B40C\Рабочий стол\труд\7-1.jpg"/>
          <p:cNvPicPr/>
          <p:nvPr/>
        </p:nvPicPr>
        <p:blipFill>
          <a:blip r:embed="rId2"/>
          <a:stretch/>
        </p:blipFill>
        <p:spPr>
          <a:xfrm>
            <a:off x="228600" y="4343400"/>
            <a:ext cx="1228680" cy="1787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Таня.F52B12A72E7B40C\Рабочий стол\труд\detskiy-trud.jpg"/>
          <p:cNvPicPr/>
          <p:nvPr/>
        </p:nvPicPr>
        <p:blipFill>
          <a:blip r:embed="rId3"/>
          <a:stretch/>
        </p:blipFill>
        <p:spPr>
          <a:xfrm>
            <a:off x="7010280" y="5562720"/>
            <a:ext cx="1752840" cy="11300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800600" y="609120"/>
            <a:ext cx="4114800" cy="5791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Таня.F52B12A72E7B40C\Рабочий стол\труд\final_shmel060807-6.jpg"/>
          <p:cNvPicPr/>
          <p:nvPr/>
        </p:nvPicPr>
        <p:blipFill>
          <a:blip r:embed="rId1"/>
          <a:stretch/>
        </p:blipFill>
        <p:spPr>
          <a:xfrm>
            <a:off x="5181480" y="1371600"/>
            <a:ext cx="3429000" cy="4275000"/>
          </a:xfrm>
          <a:prstGeom prst="rect">
            <a:avLst/>
          </a:prstGeom>
          <a:ln w="0">
            <a:noFill/>
          </a:ln>
        </p:spPr>
      </p:pic>
      <p:sp>
        <p:nvSpPr>
          <p:cNvPr id="130" name="Текст 11"/>
          <p:cNvSpPr/>
          <p:nvPr/>
        </p:nvSpPr>
        <p:spPr>
          <a:xfrm>
            <a:off x="304920" y="609480"/>
            <a:ext cx="4190760" cy="58676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Труд не есть добродетель, но необходимое  условие добродетельной жизни.»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(Л.Толс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C:\Documents and Settings\Чупров Леонид\Мои документы\А. наглядность\А. люди анимация\41_1.gif"/>
          <p:cNvPicPr/>
          <p:nvPr/>
        </p:nvPicPr>
        <p:blipFill>
          <a:blip r:embed="rId2"/>
          <a:stretch/>
        </p:blipFill>
        <p:spPr>
          <a:xfrm>
            <a:off x="3657600" y="4876920"/>
            <a:ext cx="1143000" cy="1533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4"/>
          <p:cNvSpPr/>
          <p:nvPr/>
        </p:nvSpPr>
        <p:spPr>
          <a:xfrm>
            <a:off x="457200" y="228600"/>
            <a:ext cx="8305920" cy="63244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Спасиб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за 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D:\Мои рисунки\Коллекция картинок (Microsoft)\j0315816.gif"/>
          <p:cNvPicPr/>
          <p:nvPr/>
        </p:nvPicPr>
        <p:blipFill>
          <a:blip r:embed="rId1"/>
          <a:stretch/>
        </p:blipFill>
        <p:spPr>
          <a:xfrm>
            <a:off x="7010280" y="533412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Труд с точки зрения зако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Текст 11"/>
          <p:cNvSpPr/>
          <p:nvPr/>
        </p:nvSpPr>
        <p:spPr>
          <a:xfrm>
            <a:off x="4648320" y="1828800"/>
            <a:ext cx="4114800" cy="48769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Documents and Settings\Таня.F52B12A72E7B40C\Рабочий стол\труд\1235993383_nb_pinacoteca_nesterov_portrait_of_count_leo_tolst.jpg"/>
          <p:cNvPicPr/>
          <p:nvPr/>
        </p:nvPicPr>
        <p:blipFill>
          <a:blip r:embed="rId1"/>
          <a:stretch/>
        </p:blipFill>
        <p:spPr>
          <a:xfrm>
            <a:off x="4800600" y="1981080"/>
            <a:ext cx="3765600" cy="4551480"/>
          </a:xfrm>
          <a:prstGeom prst="rect">
            <a:avLst/>
          </a:prstGeom>
          <a:ln w="0">
            <a:noFill/>
          </a:ln>
        </p:spPr>
      </p:pic>
      <p:sp>
        <p:nvSpPr>
          <p:cNvPr id="55" name="Текст 11"/>
          <p:cNvSpPr/>
          <p:nvPr/>
        </p:nvSpPr>
        <p:spPr>
          <a:xfrm>
            <a:off x="304920" y="3886200"/>
            <a:ext cx="4038480" cy="27432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Documents and Settings\Таня.F52B12A72E7B40C\Рабочий стол\труд\215550.jpg"/>
          <p:cNvPicPr/>
          <p:nvPr/>
        </p:nvPicPr>
        <p:blipFill>
          <a:blip r:embed="rId2"/>
          <a:stretch/>
        </p:blipFill>
        <p:spPr>
          <a:xfrm>
            <a:off x="609480" y="4191120"/>
            <a:ext cx="3276720" cy="2206440"/>
          </a:xfrm>
          <a:prstGeom prst="rect">
            <a:avLst/>
          </a:prstGeom>
          <a:ln w="0">
            <a:noFill/>
          </a:ln>
        </p:spPr>
      </p:pic>
      <p:sp>
        <p:nvSpPr>
          <p:cNvPr id="57" name="Текст 11"/>
          <p:cNvSpPr/>
          <p:nvPr/>
        </p:nvSpPr>
        <p:spPr>
          <a:xfrm>
            <a:off x="228600" y="1828800"/>
            <a:ext cx="4038480" cy="16765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Труд не есть добродетель, но необходимое условие добродетельной жизни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Л.Толстой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8959680" y="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72464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Текст 11"/>
          <p:cNvSpPr/>
          <p:nvPr/>
        </p:nvSpPr>
        <p:spPr>
          <a:xfrm>
            <a:off x="152280" y="1981080"/>
            <a:ext cx="37339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Documents and Settings\Таня.F52B12A72E7B40C\Рабочий стол\труд\pic.jpeg"/>
          <p:cNvPicPr/>
          <p:nvPr/>
        </p:nvPicPr>
        <p:blipFill>
          <a:blip r:embed="rId1"/>
          <a:stretch/>
        </p:blipFill>
        <p:spPr>
          <a:xfrm>
            <a:off x="457200" y="220968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3"/>
          <p:cNvSpPr/>
          <p:nvPr/>
        </p:nvSpPr>
        <p:spPr>
          <a:xfrm>
            <a:off x="609480" y="304920"/>
            <a:ext cx="8153640" cy="12189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Чупров Леонид\Мои документы\А. наглядность\Анимации исторические\peo-engineer.gif"/>
          <p:cNvPicPr/>
          <p:nvPr/>
        </p:nvPicPr>
        <p:blipFill>
          <a:blip r:embed="rId2"/>
          <a:stretch/>
        </p:blipFill>
        <p:spPr>
          <a:xfrm>
            <a:off x="7772400" y="20574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457200" y="609480"/>
            <a:ext cx="8153280" cy="4267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 Лентяй да шалопай – два родных брата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 Хочешь есть калачи – не лежи на печ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Труд человека кормит, а лень порт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0"/>
            <a:ext cx="363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Текст 11"/>
          <p:cNvSpPr/>
          <p:nvPr/>
        </p:nvSpPr>
        <p:spPr>
          <a:xfrm>
            <a:off x="2895480" y="3733920"/>
            <a:ext cx="3810240" cy="29718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3124080" y="3886200"/>
            <a:ext cx="3449880" cy="2590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3"/>
          <p:cNvSpPr/>
          <p:nvPr/>
        </p:nvSpPr>
        <p:spPr>
          <a:xfrm>
            <a:off x="685800" y="533520"/>
            <a:ext cx="8153280" cy="2057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Таня.F52B12A72E7B40C\Рабочий стол\труд\trud1.jpg"/>
          <p:cNvPicPr/>
          <p:nvPr/>
        </p:nvPicPr>
        <p:blipFill>
          <a:blip r:embed="rId1"/>
          <a:stretch/>
        </p:blipFill>
        <p:spPr>
          <a:xfrm>
            <a:off x="2895480" y="2286000"/>
            <a:ext cx="5486400" cy="412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Documents and Settings\Чупров Леонид\Мои документы\А. наглядность\А. люди анимация\peopls79.gif"/>
          <p:cNvPicPr/>
          <p:nvPr/>
        </p:nvPicPr>
        <p:blipFill>
          <a:blip r:embed="rId2"/>
          <a:stretch/>
        </p:blipFill>
        <p:spPr>
          <a:xfrm>
            <a:off x="380880" y="4038480"/>
            <a:ext cx="1863720" cy="1683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Нужно ли подросткам трудиться и зарабатывать деньги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3048120"/>
          <a:ext cx="8077320" cy="261756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97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и должны трудиться и зарабатывать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остковом возрасте дети не должны трудиться и зарабатывать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1295280" cy="16606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раво на труд –важнейшее и неотъемлем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9718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:\Documents and Settings\Чупров Леонид\Мои документы\А. наглядность\Анимации исторические\peo-relaxin_dude.gif"/>
          <p:cNvPicPr/>
          <p:nvPr/>
        </p:nvPicPr>
        <p:blipFill>
          <a:blip r:embed="rId1"/>
          <a:stretch/>
        </p:blipFill>
        <p:spPr>
          <a:xfrm>
            <a:off x="1219320" y="3429000"/>
            <a:ext cx="2479680" cy="1157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Чупров Леонид\Мои документы\А. наглядность\А. люди анимация\peopls91.gif"/>
          <p:cNvPicPr/>
          <p:nvPr/>
        </p:nvPicPr>
        <p:blipFill>
          <a:blip r:embed="rId2"/>
          <a:stretch/>
        </p:blipFill>
        <p:spPr>
          <a:xfrm>
            <a:off x="7238880" y="3124080"/>
            <a:ext cx="952560" cy="851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Documents and Settings\Чупров Леонид\Мои документы\А. наглядность\Анимации исторические\man26.gif"/>
          <p:cNvPicPr/>
          <p:nvPr/>
        </p:nvPicPr>
        <p:blipFill>
          <a:blip r:embed="rId3"/>
          <a:stretch/>
        </p:blipFill>
        <p:spPr>
          <a:xfrm>
            <a:off x="6095880" y="5486400"/>
            <a:ext cx="1811520" cy="1012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Чупров Леонид\Мои документы\А. наглядность\А. люди анимация\hw06.gif"/>
          <p:cNvPicPr/>
          <p:nvPr/>
        </p:nvPicPr>
        <p:blipFill>
          <a:blip r:embed="rId4"/>
          <a:stretch/>
        </p:blipFill>
        <p:spPr>
          <a:xfrm>
            <a:off x="4114800" y="480060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457200" y="20574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0" y="3962520"/>
            <a:ext cx="2139840" cy="2895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Мои рисунки\Оля\Рисунок2.jpg"/>
          <p:cNvPicPr/>
          <p:nvPr/>
        </p:nvPicPr>
        <p:blipFill>
          <a:blip r:embed="rId2"/>
          <a:stretch/>
        </p:blipFill>
        <p:spPr>
          <a:xfrm>
            <a:off x="2438280" y="3124080"/>
            <a:ext cx="3353040" cy="3733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Documents and Settings\Таня.F52B12A72E7B40C\Рабочий стол\труд\7-1.jpg"/>
          <p:cNvPicPr/>
          <p:nvPr/>
        </p:nvPicPr>
        <p:blipFill>
          <a:blip r:embed="rId3"/>
          <a:stretch/>
        </p:blipFill>
        <p:spPr>
          <a:xfrm>
            <a:off x="6019920" y="2666880"/>
            <a:ext cx="288108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457200" y="380880"/>
            <a:ext cx="8229600" cy="2133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раво на труд –важнейшее и неотъемлем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Трудовой кодекс Р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572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Текст 11"/>
          <p:cNvSpPr/>
          <p:nvPr/>
        </p:nvSpPr>
        <p:spPr>
          <a:xfrm>
            <a:off x="457200" y="1981080"/>
            <a:ext cx="388620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:\Documents and Settings\Таня.F52B12A72E7B40C\Рабочий стол\труд\7-1.jpg"/>
          <p:cNvPicPr/>
          <p:nvPr/>
        </p:nvPicPr>
        <p:blipFill>
          <a:blip r:embed="rId1"/>
          <a:stretch/>
        </p:blipFill>
        <p:spPr>
          <a:xfrm>
            <a:off x="914400" y="2286000"/>
            <a:ext cx="2917800" cy="41338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1:08Z</dcterms:modified>
  <cp:revision>182</cp:revision>
  <dc:subject/>
  <dc:title>Урок обществознания 6 класс по теме «Труд с точки зрения закон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